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gif" ContentType="image/gif"/>
  <Override PartName="/ppt/media/image7.png" ContentType="image/png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106-08BA-4E7D-BB1E-D8147316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94D-5803-4AEA-AC99-E2E13623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5B5-A578-4DFA-893D-1DE9CDAB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07D-E11A-4BBA-8815-A9971B10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747-7D4E-4603-ADD7-72A0BAF5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777-70D8-4E8E-9D5F-4F4DB65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A07-2246-4750-B7C2-5E6F120A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E2B-9AAF-4C31-8AAB-BB1A111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A58D-F19F-4981-81CB-77DE3FFD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9FEA-2C3F-4D5C-9F48-ED6E756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479-F85D-4DB1-9C49-924CC73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D4B-8773-4A24-B555-43E9554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CBD-157C-46FE-B593-B4A6FAA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FACF-F61B-40D1-BD82-A9B4769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A8F-215F-4C1D-A3A5-D5A5A0C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BBC-1546-45EA-9B02-B68C00A9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4513-D827-4D2C-A02D-1F79589B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404-85C8-4A13-9B97-7547545E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BFC-77A9-4958-94F4-671E0BF7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B8B-4995-4C90-9DC6-E9369556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853-B97A-41B7-9215-C8F5C67B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C99-4231-4E21-A02C-F7D78A6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44C-9015-45D3-B58F-CB1BE64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B34-D103-45C3-B3C2-D5690B3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493-B976-4D76-AA91-4DF197C23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12E-BB11-4663-9A12-F87FABA2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hapter 1: A Healthy Foundation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: Your Health &amp; We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76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ll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the three parts of your health triangle balanced is the best way to achieve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mean to have a high level of well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427040" cy="14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15019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osing Questions/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mo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aning of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ree aspects of health that must be balanced in order to achieve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lationship between health and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triangle is out of balance… Why? What can you do to balanc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LL ACTIVITY: How healthy are you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at least 5 conditions or behaviors that indicate the state of your own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hat do you or do you not do for your health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Brushing te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1741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ng Health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mean to be healt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health involves every part of your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lth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combination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al, mental/emotional, and social well-be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c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to do with the condition of you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ntal/Emotion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als with your thoughts and emotions. Emotions are feelings such as joy, love, and f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ways in which you relate to other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sic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 a well-balance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fit through regular exer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at least 8 hours of sleep each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body, teeth, and hair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regular medical and dental check 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obacco, alcohol, an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ntal/Emotion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problems with a positive and realistic att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 your feelings clearly and calmly to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riorities so that you will not be overwhelmed by school, responsibilities at home, or athletic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your mistakes as opportunities to learn, grow, and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your weak areas and try to improv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effective decision-mak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talents effect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 responsibility for your 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up for your beliefs and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 open to learning new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71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friendly, open attitude toward other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communicate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and care for family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 loyal, truthful, and dependable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other people’s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other people’s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disagree without argu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resolve conflicts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support and help when it i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uld you believe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ghter may actually be “good medicine.” Individual experiences and scientific experiments document the close relationship between good emotional health, as expressed in humor and laughter, and good physical h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natomy of Ill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 account of his struggle with severe and painful connective tissue disease, Norman Cousins wrote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I made the joyous discovery that ten minutes of genuine belly laughter had an anesthetic effect and would give me at least two hours of pain-free slee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65760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ying in ba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easy to concentrate on one aspect of health and neglect the 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ly healthy person however, keeps physical, mental/emotional, and social health in proper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7650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76520" y="4419720"/>
            <a:ext cx="28620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ealth Trian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0765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7:36:44Z</dcterms:created>
  <dc:creator>GSCS</dc:creator>
  <dc:description/>
  <dc:language>en-US</dc:language>
  <cp:lastModifiedBy>GSCS</cp:lastModifiedBy>
  <dcterms:modified xsi:type="dcterms:W3CDTF">2011-01-06T13:00:16Z</dcterms:modified>
  <cp:revision>3</cp:revision>
  <dc:subject/>
  <dc:title>Chapter 1: A Healthy Foundation </dc:title>
</cp:coreProperties>
</file>